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D7A6-897F-47C4-9277-D36BFAC0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footage.shutterstock.com/clip-2456567-stock-footage-spring-green-plants-in-the-foreground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aileybio.com/plogger/?level=picture&amp;id=6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eb.dbs.umt.edu/dbs/courses/sci226/lab4_plantsanimal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2.yk.psu.edu/~sg3/ist311/games/team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glogster.com/brandonl13/the-plant-body/g-6lllm92mrphbrfs5t045pa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wc2012.wikispaces.com/nonvascular+seedless+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biologyintro2life.blogspot.ca/2010/08/multicellular-organization-plants_1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1CB-B9A2-40AA-A214-46AFE88E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73B-F4A9-444D-9BEA-1C00C00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F1D-8C1F-4910-B109-2931CAC0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B10-753F-4029-9679-62A547D5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68C-9E78-446D-92C3-7F510D07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733-32FC-4A67-98D0-550460E1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8D0-800D-4729-96AD-6CC15CFA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41B-604E-4FBB-A801-B352BFBA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9F2-E5BC-409E-8944-A4539E03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BE5-815C-4C4D-9075-EBBC71D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13C-BB0D-48FA-88FB-5BA4E36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FAC-FD2C-4BF9-A0F2-FE9AC634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AD5A-1C56-4AB4-8D2F-62A15E8E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: Anatomy, Grow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ly dividing, undifferentiat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specialize into different cells,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1677960"/>
            <a:ext cx="43434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from Divers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19200" y="1676520"/>
            <a:ext cx="6103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cots have seeds with 1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ts have seeds with 2 cotyle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224784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stematic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2682720"/>
            <a:ext cx="4191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mal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most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, peri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24192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44560" y="1523880"/>
            <a:ext cx="7607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Xy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-walled cells, dead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ids &amp; vesse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water &amp; sol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cular Tissue - Ph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-walled liv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ve cells, sieve tube elements, companio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ug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91120" y="1974960"/>
            <a:ext cx="47242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chyma, collenchyma, sclerenchy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growth &amp; development; store sugars; support &amp; protect plant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746360"/>
            <a:ext cx="8458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3:46:10Z</dcterms:created>
  <dc:creator>rubina khan</dc:creator>
  <dc:description/>
  <dc:language>en-US</dc:language>
  <cp:lastModifiedBy>rubina khan</cp:lastModifiedBy>
  <dcterms:modified xsi:type="dcterms:W3CDTF">2015-02-25T10:48:39Z</dcterms:modified>
  <cp:revision>48</cp:revision>
  <dc:subject/>
  <dc:title>PowerPoint Presentation</dc:title>
</cp:coreProperties>
</file>